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E9213-41A5-4CE4-B022-C6CC79BDD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0" name="PlaceHolder 2"/>
          <p:cNvSpPr>
            <a:spLocks noGrp="1"/>
          </p:cNvSpPr>
          <p:nvPr>
            <p:ph/>
          </p:nvPr>
        </p:nvSpPr>
        <p:spPr>
          <a:xfrm>
            <a:off x="106668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DA891-42A5-4D04-9C43-5CA51B9AA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3"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F2C8E-1B32-4BA1-A047-B1AA30850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8" name="PlaceHolder 2"/>
          <p:cNvSpPr>
            <a:spLocks noGrp="1"/>
          </p:cNvSpPr>
          <p:nvPr>
            <p:ph/>
          </p:nvPr>
        </p:nvSpPr>
        <p:spPr>
          <a:xfrm>
            <a:off x="1066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694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32232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1066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694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32232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33BAC-78A7-433F-B786-D2976B2A0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1C8A3A-B3A3-48D3-8689-923C112D27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59" name="PlaceHolder 2"/>
          <p:cNvSpPr>
            <a:spLocks noGrp="1"/>
          </p:cNvSpPr>
          <p:nvPr>
            <p:ph type="subTitle"/>
          </p:nvPr>
        </p:nvSpPr>
        <p:spPr>
          <a:xfrm>
            <a:off x="106668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910AE-C43A-41F2-9E44-EBBC7AB93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6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62E32-CD06-40ED-9244-E802C211D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63"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082BF-6511-4FEB-A7DC-C1FB90F34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F40B5-7069-48FE-84A1-B61793558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17680" y="546480"/>
            <a:ext cx="859608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D6A7C-45B5-49D0-928C-7BA5FC856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68"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53B2A-7359-4CFA-BFBC-D15D9B0C0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9" name="PlaceHolder 2"/>
          <p:cNvSpPr>
            <a:spLocks noGrp="1"/>
          </p:cNvSpPr>
          <p:nvPr>
            <p:ph type="subTitle"/>
          </p:nvPr>
        </p:nvSpPr>
        <p:spPr>
          <a:xfrm>
            <a:off x="106668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AAD45-6B01-4A2F-A502-AA4362484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72"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7060E-C80B-4ABA-B25A-310AF535C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76"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F0454-3765-4B5B-8167-1A42FEBC5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80" name="PlaceHolder 2"/>
          <p:cNvSpPr>
            <a:spLocks noGrp="1"/>
          </p:cNvSpPr>
          <p:nvPr>
            <p:ph/>
          </p:nvPr>
        </p:nvSpPr>
        <p:spPr>
          <a:xfrm>
            <a:off x="106668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54DED-31BA-4D02-879F-DF3A380AF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83"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5"/>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8AD8F3-0AEF-44FD-A05F-C81A401722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88" name="PlaceHolder 2"/>
          <p:cNvSpPr>
            <a:spLocks noGrp="1"/>
          </p:cNvSpPr>
          <p:nvPr>
            <p:ph/>
          </p:nvPr>
        </p:nvSpPr>
        <p:spPr>
          <a:xfrm>
            <a:off x="1066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3"/>
          <p:cNvSpPr>
            <a:spLocks noGrp="1"/>
          </p:cNvSpPr>
          <p:nvPr>
            <p:ph/>
          </p:nvPr>
        </p:nvSpPr>
        <p:spPr>
          <a:xfrm>
            <a:off x="3694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4"/>
          <p:cNvSpPr>
            <a:spLocks noGrp="1"/>
          </p:cNvSpPr>
          <p:nvPr>
            <p:ph/>
          </p:nvPr>
        </p:nvSpPr>
        <p:spPr>
          <a:xfrm>
            <a:off x="632232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 name="PlaceHolder 5"/>
          <p:cNvSpPr>
            <a:spLocks noGrp="1"/>
          </p:cNvSpPr>
          <p:nvPr>
            <p:ph/>
          </p:nvPr>
        </p:nvSpPr>
        <p:spPr>
          <a:xfrm>
            <a:off x="1066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 name="PlaceHolder 6"/>
          <p:cNvSpPr>
            <a:spLocks noGrp="1"/>
          </p:cNvSpPr>
          <p:nvPr>
            <p:ph/>
          </p:nvPr>
        </p:nvSpPr>
        <p:spPr>
          <a:xfrm>
            <a:off x="3694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7"/>
          <p:cNvSpPr>
            <a:spLocks noGrp="1"/>
          </p:cNvSpPr>
          <p:nvPr>
            <p:ph/>
          </p:nvPr>
        </p:nvSpPr>
        <p:spPr>
          <a:xfrm>
            <a:off x="632232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20EBA9-4BC5-4DD5-876D-728F03DBB1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1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F01F7-5706-4D3B-9AD8-DADD39798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13"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579B5-FE98-466A-9466-8EB7E023F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B39BA-F3ED-4595-873D-F8B995B83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17680" y="546480"/>
            <a:ext cx="859608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790DD-B1AE-49FE-9343-675134E2B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18"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99F8E-1A76-4BD2-8547-F50533669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22"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FA8FC-E071-4509-AEC5-87146C91F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26"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D83AE-9B68-463C-8C60-2792EFEDA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23760" y="1763640"/>
            <a:ext cx="6899400" cy="171360"/>
          </a:xfrm>
          <a:custGeom>
            <a:avLst/>
            <a:gdLst/>
            <a:ahLst/>
            <a:rect l="l" t="t" r="r" b="b"/>
            <a:pathLst>
              <a:path w="4346" h="108">
                <a:moveTo>
                  <a:pt x="3477" y="10"/>
                </a:moveTo>
                <a:cubicBezTo>
                  <a:pt x="3680" y="12"/>
                  <a:pt x="3921" y="14"/>
                  <a:pt x="4057" y="17"/>
                </a:cubicBezTo>
                <a:cubicBezTo>
                  <a:pt x="4192" y="20"/>
                  <a:pt x="4253" y="24"/>
                  <a:pt x="4293" y="30"/>
                </a:cubicBezTo>
                <a:cubicBezTo>
                  <a:pt x="4333" y="36"/>
                  <a:pt x="4286" y="43"/>
                  <a:pt x="4293" y="50"/>
                </a:cubicBezTo>
                <a:cubicBezTo>
                  <a:pt x="4300" y="57"/>
                  <a:pt x="4328" y="67"/>
                  <a:pt x="4329" y="73"/>
                </a:cubicBezTo>
                <a:cubicBezTo>
                  <a:pt x="4331" y="80"/>
                  <a:pt x="4346" y="85"/>
                  <a:pt x="4305" y="89"/>
                </a:cubicBezTo>
                <a:cubicBezTo>
                  <a:pt x="4263" y="93"/>
                  <a:pt x="4186" y="97"/>
                  <a:pt x="4082" y="99"/>
                </a:cubicBezTo>
                <a:cubicBezTo>
                  <a:pt x="3977" y="100"/>
                  <a:pt x="3834" y="99"/>
                  <a:pt x="3675" y="99"/>
                </a:cubicBezTo>
                <a:cubicBezTo>
                  <a:pt x="3516" y="98"/>
                  <a:pt x="3341" y="95"/>
                  <a:pt x="3129" y="94"/>
                </a:cubicBezTo>
                <a:cubicBezTo>
                  <a:pt x="2918" y="93"/>
                  <a:pt x="2634" y="94"/>
                  <a:pt x="2401" y="94"/>
                </a:cubicBezTo>
                <a:cubicBezTo>
                  <a:pt x="2168" y="95"/>
                  <a:pt x="2024" y="97"/>
                  <a:pt x="1733" y="98"/>
                </a:cubicBezTo>
                <a:cubicBezTo>
                  <a:pt x="1442" y="99"/>
                  <a:pt x="946" y="103"/>
                  <a:pt x="657" y="102"/>
                </a:cubicBezTo>
                <a:cubicBezTo>
                  <a:pt x="368" y="101"/>
                  <a:pt x="110" y="108"/>
                  <a:pt x="1" y="93"/>
                </a:cubicBezTo>
                <a:lnTo>
                  <a:pt x="0" y="13"/>
                </a:lnTo>
                <a:cubicBezTo>
                  <a:pt x="109" y="0"/>
                  <a:pt x="432" y="13"/>
                  <a:pt x="657" y="12"/>
                </a:cubicBezTo>
                <a:cubicBezTo>
                  <a:pt x="882" y="11"/>
                  <a:pt x="1082" y="7"/>
                  <a:pt x="1349" y="7"/>
                </a:cubicBezTo>
                <a:cubicBezTo>
                  <a:pt x="1617" y="6"/>
                  <a:pt x="2017" y="8"/>
                  <a:pt x="2265" y="9"/>
                </a:cubicBezTo>
                <a:cubicBezTo>
                  <a:pt x="2513" y="9"/>
                  <a:pt x="2634" y="9"/>
                  <a:pt x="2834" y="8"/>
                </a:cubicBezTo>
                <a:cubicBezTo>
                  <a:pt x="3034" y="9"/>
                  <a:pt x="3273" y="9"/>
                  <a:pt x="3477" y="10"/>
                </a:cubicBezTo>
                <a:close/>
              </a:path>
            </a:pathLst>
          </a:custGeom>
          <a:solidFill>
            <a:srgbClr val="c6cb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98360" y="152280"/>
            <a:ext cx="716040" cy="6400800"/>
          </a:xfrm>
          <a:custGeom>
            <a:avLst/>
            <a:gdLst/>
            <a:ahLst/>
            <a:rect l="l" t="t" r="r" b="b"/>
            <a:pathLst>
              <a:path w="883" h="4115">
                <a:moveTo>
                  <a:pt x="86" y="3201"/>
                </a:moveTo>
                <a:cubicBezTo>
                  <a:pt x="89" y="3056"/>
                  <a:pt x="83" y="2912"/>
                  <a:pt x="79" y="2730"/>
                </a:cubicBezTo>
                <a:cubicBezTo>
                  <a:pt x="75" y="2548"/>
                  <a:pt x="60" y="2270"/>
                  <a:pt x="64" y="2109"/>
                </a:cubicBezTo>
                <a:cubicBezTo>
                  <a:pt x="68" y="1948"/>
                  <a:pt x="99" y="1927"/>
                  <a:pt x="101" y="1765"/>
                </a:cubicBezTo>
                <a:cubicBezTo>
                  <a:pt x="103" y="1603"/>
                  <a:pt x="90" y="1323"/>
                  <a:pt x="79" y="1137"/>
                </a:cubicBezTo>
                <a:cubicBezTo>
                  <a:pt x="68" y="951"/>
                  <a:pt x="44" y="793"/>
                  <a:pt x="34" y="651"/>
                </a:cubicBezTo>
                <a:cubicBezTo>
                  <a:pt x="24" y="509"/>
                  <a:pt x="17" y="385"/>
                  <a:pt x="19" y="284"/>
                </a:cubicBezTo>
                <a:cubicBezTo>
                  <a:pt x="21" y="183"/>
                  <a:pt x="32" y="90"/>
                  <a:pt x="49" y="45"/>
                </a:cubicBezTo>
                <a:cubicBezTo>
                  <a:pt x="66" y="0"/>
                  <a:pt x="91" y="16"/>
                  <a:pt x="123" y="15"/>
                </a:cubicBezTo>
                <a:cubicBezTo>
                  <a:pt x="155" y="14"/>
                  <a:pt x="204" y="37"/>
                  <a:pt x="243" y="37"/>
                </a:cubicBezTo>
                <a:cubicBezTo>
                  <a:pt x="282" y="37"/>
                  <a:pt x="310" y="20"/>
                  <a:pt x="355" y="15"/>
                </a:cubicBezTo>
                <a:cubicBezTo>
                  <a:pt x="400" y="10"/>
                  <a:pt x="453" y="0"/>
                  <a:pt x="512" y="7"/>
                </a:cubicBezTo>
                <a:cubicBezTo>
                  <a:pt x="571" y="14"/>
                  <a:pt x="659" y="37"/>
                  <a:pt x="707" y="60"/>
                </a:cubicBezTo>
                <a:cubicBezTo>
                  <a:pt x="755" y="83"/>
                  <a:pt x="783" y="99"/>
                  <a:pt x="797" y="142"/>
                </a:cubicBezTo>
                <a:cubicBezTo>
                  <a:pt x="811" y="185"/>
                  <a:pt x="788" y="235"/>
                  <a:pt x="789" y="321"/>
                </a:cubicBezTo>
                <a:cubicBezTo>
                  <a:pt x="790" y="407"/>
                  <a:pt x="794" y="537"/>
                  <a:pt x="804" y="658"/>
                </a:cubicBezTo>
                <a:cubicBezTo>
                  <a:pt x="814" y="779"/>
                  <a:pt x="844" y="892"/>
                  <a:pt x="849" y="1047"/>
                </a:cubicBezTo>
                <a:cubicBezTo>
                  <a:pt x="854" y="1202"/>
                  <a:pt x="840" y="1394"/>
                  <a:pt x="834" y="1586"/>
                </a:cubicBezTo>
                <a:cubicBezTo>
                  <a:pt x="828" y="1778"/>
                  <a:pt x="805" y="1995"/>
                  <a:pt x="812" y="2199"/>
                </a:cubicBezTo>
                <a:cubicBezTo>
                  <a:pt x="819" y="2403"/>
                  <a:pt x="875" y="2624"/>
                  <a:pt x="879" y="2812"/>
                </a:cubicBezTo>
                <a:cubicBezTo>
                  <a:pt x="883" y="3000"/>
                  <a:pt x="840" y="3138"/>
                  <a:pt x="834" y="3329"/>
                </a:cubicBezTo>
                <a:cubicBezTo>
                  <a:pt x="828" y="3520"/>
                  <a:pt x="848" y="3836"/>
                  <a:pt x="842" y="3957"/>
                </a:cubicBezTo>
                <a:cubicBezTo>
                  <a:pt x="836" y="4078"/>
                  <a:pt x="833" y="4033"/>
                  <a:pt x="797" y="4054"/>
                </a:cubicBezTo>
                <a:cubicBezTo>
                  <a:pt x="761" y="4075"/>
                  <a:pt x="686" y="4086"/>
                  <a:pt x="625" y="4084"/>
                </a:cubicBezTo>
                <a:cubicBezTo>
                  <a:pt x="564" y="4082"/>
                  <a:pt x="492" y="4041"/>
                  <a:pt x="430" y="4039"/>
                </a:cubicBezTo>
                <a:cubicBezTo>
                  <a:pt x="368" y="4037"/>
                  <a:pt x="302" y="4057"/>
                  <a:pt x="251" y="4069"/>
                </a:cubicBezTo>
                <a:cubicBezTo>
                  <a:pt x="200" y="4081"/>
                  <a:pt x="162" y="4115"/>
                  <a:pt x="123" y="4114"/>
                </a:cubicBezTo>
                <a:cubicBezTo>
                  <a:pt x="84" y="4113"/>
                  <a:pt x="38" y="4102"/>
                  <a:pt x="19" y="4062"/>
                </a:cubicBezTo>
                <a:cubicBezTo>
                  <a:pt x="0" y="4022"/>
                  <a:pt x="3" y="3952"/>
                  <a:pt x="11" y="3875"/>
                </a:cubicBezTo>
                <a:cubicBezTo>
                  <a:pt x="19" y="3798"/>
                  <a:pt x="51" y="3710"/>
                  <a:pt x="64" y="3598"/>
                </a:cubicBezTo>
                <a:cubicBezTo>
                  <a:pt x="77" y="3486"/>
                  <a:pt x="83" y="3346"/>
                  <a:pt x="86" y="3201"/>
                </a:cubicBezTo>
                <a:close/>
              </a:path>
            </a:pathLst>
          </a:custGeom>
          <a:solidFill>
            <a:srgbClr val="9f83bd">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 name=""/>
          <p:cNvSpPr/>
          <p:nvPr/>
        </p:nvSpPr>
        <p:spPr>
          <a:xfrm>
            <a:off x="324000" y="1157400"/>
            <a:ext cx="152280" cy="914400"/>
          </a:xfrm>
          <a:custGeom>
            <a:avLst/>
            <a:gdLst/>
            <a:ahLst/>
            <a:rect l="l" t="t" r="r" b="b"/>
            <a:pathLst>
              <a:path w="110" h="842">
                <a:moveTo>
                  <a:pt x="92" y="0"/>
                </a:moveTo>
                <a:lnTo>
                  <a:pt x="81" y="170"/>
                </a:lnTo>
                <a:lnTo>
                  <a:pt x="51" y="362"/>
                </a:lnTo>
                <a:lnTo>
                  <a:pt x="74" y="539"/>
                </a:lnTo>
                <a:lnTo>
                  <a:pt x="88" y="709"/>
                </a:lnTo>
                <a:lnTo>
                  <a:pt x="110" y="842"/>
                </a:lnTo>
                <a:lnTo>
                  <a:pt x="81" y="768"/>
                </a:lnTo>
                <a:lnTo>
                  <a:pt x="59" y="716"/>
                </a:lnTo>
                <a:lnTo>
                  <a:pt x="29" y="598"/>
                </a:lnTo>
                <a:lnTo>
                  <a:pt x="0" y="414"/>
                </a:lnTo>
                <a:lnTo>
                  <a:pt x="22" y="251"/>
                </a:lnTo>
                <a:lnTo>
                  <a:pt x="51" y="81"/>
                </a:lnTo>
                <a:lnTo>
                  <a:pt x="92"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lick to edit the title text format</a:t>
            </a:r>
            <a:endParaRPr b="0" lang="en-US" sz="4300" spc="-1" strike="noStrike">
              <a:solidFill>
                <a:srgbClr val="000000"/>
              </a:solidFill>
              <a:latin typeface="Comic Sans MS"/>
            </a:endParaRPr>
          </a:p>
        </p:txBody>
      </p:sp>
      <p:sp>
        <p:nvSpPr>
          <p:cNvPr id="4" name="PlaceHolder 2"/>
          <p:cNvSpPr>
            <a:spLocks noGrp="1"/>
          </p:cNvSpPr>
          <p:nvPr>
            <p:ph type="body"/>
          </p:nvPr>
        </p:nvSpPr>
        <p:spPr>
          <a:xfrm>
            <a:off x="1066680" y="205740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52A0C-DCBA-4F18-BB71-05AFE90B411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4" name=""/>
          <p:cNvGrpSpPr/>
          <p:nvPr/>
        </p:nvGrpSpPr>
        <p:grpSpPr>
          <a:xfrm>
            <a:off x="228600" y="3124080"/>
            <a:ext cx="8564400" cy="390240"/>
            <a:chOff x="228600" y="3124080"/>
            <a:chExt cx="8564400" cy="390240"/>
          </a:xfrm>
        </p:grpSpPr>
        <p:sp>
          <p:nvSpPr>
            <p:cNvPr id="45" name=""/>
            <p:cNvSpPr/>
            <p:nvPr/>
          </p:nvSpPr>
          <p:spPr>
            <a:xfrm flipH="1" flipV="1" rot="16200000">
              <a:off x="4434480" y="-930240"/>
              <a:ext cx="152280" cy="8564400"/>
            </a:xfrm>
            <a:custGeom>
              <a:avLst/>
              <a:gdLst/>
              <a:ahLst/>
              <a:rect l="l" t="t" r="r" b="b"/>
              <a:pathLst>
                <a:path w="1699" h="3264">
                  <a:moveTo>
                    <a:pt x="91" y="526"/>
                  </a:moveTo>
                  <a:cubicBezTo>
                    <a:pt x="116" y="403"/>
                    <a:pt x="152" y="257"/>
                    <a:pt x="211" y="175"/>
                  </a:cubicBezTo>
                  <a:cubicBezTo>
                    <a:pt x="270" y="93"/>
                    <a:pt x="345" y="56"/>
                    <a:pt x="443" y="32"/>
                  </a:cubicBezTo>
                  <a:cubicBezTo>
                    <a:pt x="541" y="8"/>
                    <a:pt x="675" y="36"/>
                    <a:pt x="802" y="32"/>
                  </a:cubicBezTo>
                  <a:cubicBezTo>
                    <a:pt x="929" y="28"/>
                    <a:pt x="1093" y="11"/>
                    <a:pt x="1206" y="10"/>
                  </a:cubicBezTo>
                  <a:cubicBezTo>
                    <a:pt x="1319" y="9"/>
                    <a:pt x="1407" y="0"/>
                    <a:pt x="1482" y="25"/>
                  </a:cubicBezTo>
                  <a:cubicBezTo>
                    <a:pt x="1557" y="50"/>
                    <a:pt x="1626" y="97"/>
                    <a:pt x="1655" y="160"/>
                  </a:cubicBezTo>
                  <a:cubicBezTo>
                    <a:pt x="1684" y="223"/>
                    <a:pt x="1669" y="310"/>
                    <a:pt x="1655" y="406"/>
                  </a:cubicBezTo>
                  <a:cubicBezTo>
                    <a:pt x="1641" y="502"/>
                    <a:pt x="1587" y="608"/>
                    <a:pt x="1572" y="736"/>
                  </a:cubicBezTo>
                  <a:cubicBezTo>
                    <a:pt x="1557" y="864"/>
                    <a:pt x="1555" y="1036"/>
                    <a:pt x="1565" y="1177"/>
                  </a:cubicBezTo>
                  <a:cubicBezTo>
                    <a:pt x="1575" y="1318"/>
                    <a:pt x="1611" y="1405"/>
                    <a:pt x="1632" y="1581"/>
                  </a:cubicBezTo>
                  <a:cubicBezTo>
                    <a:pt x="1653" y="1757"/>
                    <a:pt x="1699" y="2024"/>
                    <a:pt x="1692" y="2232"/>
                  </a:cubicBezTo>
                  <a:cubicBezTo>
                    <a:pt x="1685" y="2440"/>
                    <a:pt x="1598" y="2693"/>
                    <a:pt x="1587" y="2830"/>
                  </a:cubicBezTo>
                  <a:cubicBezTo>
                    <a:pt x="1576" y="2967"/>
                    <a:pt x="1634" y="2988"/>
                    <a:pt x="1625" y="3055"/>
                  </a:cubicBezTo>
                  <a:cubicBezTo>
                    <a:pt x="1616" y="3122"/>
                    <a:pt x="1585" y="3204"/>
                    <a:pt x="1535" y="3234"/>
                  </a:cubicBezTo>
                  <a:cubicBezTo>
                    <a:pt x="1485" y="3264"/>
                    <a:pt x="1427" y="3239"/>
                    <a:pt x="1325" y="3234"/>
                  </a:cubicBezTo>
                  <a:cubicBezTo>
                    <a:pt x="1223" y="3229"/>
                    <a:pt x="1057" y="3202"/>
                    <a:pt x="921" y="3204"/>
                  </a:cubicBezTo>
                  <a:cubicBezTo>
                    <a:pt x="785" y="3206"/>
                    <a:pt x="641" y="3255"/>
                    <a:pt x="510" y="3249"/>
                  </a:cubicBezTo>
                  <a:cubicBezTo>
                    <a:pt x="379" y="3243"/>
                    <a:pt x="214" y="3217"/>
                    <a:pt x="136" y="3167"/>
                  </a:cubicBezTo>
                  <a:cubicBezTo>
                    <a:pt x="58" y="3117"/>
                    <a:pt x="45" y="3036"/>
                    <a:pt x="39" y="2950"/>
                  </a:cubicBezTo>
                  <a:cubicBezTo>
                    <a:pt x="33" y="2864"/>
                    <a:pt x="89" y="2771"/>
                    <a:pt x="99" y="2651"/>
                  </a:cubicBezTo>
                  <a:cubicBezTo>
                    <a:pt x="109" y="2531"/>
                    <a:pt x="114" y="2372"/>
                    <a:pt x="99" y="2232"/>
                  </a:cubicBezTo>
                  <a:cubicBezTo>
                    <a:pt x="84" y="2092"/>
                    <a:pt x="18" y="1975"/>
                    <a:pt x="9" y="1813"/>
                  </a:cubicBezTo>
                  <a:cubicBezTo>
                    <a:pt x="0" y="1651"/>
                    <a:pt x="37" y="1409"/>
                    <a:pt x="46" y="1259"/>
                  </a:cubicBezTo>
                  <a:cubicBezTo>
                    <a:pt x="55" y="1109"/>
                    <a:pt x="52" y="1036"/>
                    <a:pt x="61" y="915"/>
                  </a:cubicBezTo>
                  <a:cubicBezTo>
                    <a:pt x="70" y="794"/>
                    <a:pt x="66" y="649"/>
                    <a:pt x="91" y="526"/>
                  </a:cubicBezTo>
                  <a:close/>
                </a:path>
              </a:pathLst>
            </a:custGeom>
            <a:solidFill>
              <a:srgbClr val="c6cb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 name=""/>
            <p:cNvGrpSpPr/>
            <p:nvPr/>
          </p:nvGrpSpPr>
          <p:grpSpPr>
            <a:xfrm>
              <a:off x="3809880" y="3124080"/>
              <a:ext cx="1219320" cy="390240"/>
              <a:chOff x="3809880" y="3124080"/>
              <a:chExt cx="1219320" cy="390240"/>
            </a:xfrm>
          </p:grpSpPr>
          <p:grpSp>
            <p:nvGrpSpPr>
              <p:cNvPr id="47" name=""/>
              <p:cNvGrpSpPr/>
              <p:nvPr/>
            </p:nvGrpSpPr>
            <p:grpSpPr>
              <a:xfrm>
                <a:off x="3809880" y="3124440"/>
                <a:ext cx="1219320" cy="389880"/>
                <a:chOff x="3809880" y="3124440"/>
                <a:chExt cx="1219320" cy="389880"/>
              </a:xfrm>
            </p:grpSpPr>
            <p:sp>
              <p:nvSpPr>
                <p:cNvPr id="48" name=""/>
                <p:cNvSpPr/>
                <p:nvPr/>
              </p:nvSpPr>
              <p:spPr>
                <a:xfrm>
                  <a:off x="3906000" y="3241800"/>
                  <a:ext cx="1123200" cy="272520"/>
                </a:xfrm>
                <a:custGeom>
                  <a:avLst/>
                  <a:gdLst/>
                  <a:ahLst/>
                  <a:rect l="l" t="t" r="r" b="b"/>
                  <a:pathLst>
                    <a:path w="2161" h="457">
                      <a:moveTo>
                        <a:pt x="7" y="139"/>
                      </a:moveTo>
                      <a:cubicBezTo>
                        <a:pt x="13" y="175"/>
                        <a:pt x="59" y="234"/>
                        <a:pt x="89" y="266"/>
                      </a:cubicBezTo>
                      <a:cubicBezTo>
                        <a:pt x="119" y="298"/>
                        <a:pt x="143" y="327"/>
                        <a:pt x="187" y="333"/>
                      </a:cubicBezTo>
                      <a:cubicBezTo>
                        <a:pt x="231" y="339"/>
                        <a:pt x="289" y="312"/>
                        <a:pt x="351" y="303"/>
                      </a:cubicBezTo>
                      <a:cubicBezTo>
                        <a:pt x="413" y="294"/>
                        <a:pt x="478" y="288"/>
                        <a:pt x="561" y="281"/>
                      </a:cubicBezTo>
                      <a:cubicBezTo>
                        <a:pt x="644" y="274"/>
                        <a:pt x="751" y="263"/>
                        <a:pt x="852" y="259"/>
                      </a:cubicBezTo>
                      <a:cubicBezTo>
                        <a:pt x="953" y="255"/>
                        <a:pt x="1052" y="249"/>
                        <a:pt x="1167" y="259"/>
                      </a:cubicBezTo>
                      <a:cubicBezTo>
                        <a:pt x="1282" y="269"/>
                        <a:pt x="1443" y="294"/>
                        <a:pt x="1541" y="318"/>
                      </a:cubicBezTo>
                      <a:cubicBezTo>
                        <a:pt x="1639" y="342"/>
                        <a:pt x="1697" y="379"/>
                        <a:pt x="1758" y="401"/>
                      </a:cubicBezTo>
                      <a:cubicBezTo>
                        <a:pt x="1819" y="423"/>
                        <a:pt x="1858" y="449"/>
                        <a:pt x="1907" y="453"/>
                      </a:cubicBezTo>
                      <a:cubicBezTo>
                        <a:pt x="1956" y="457"/>
                        <a:pt x="2015" y="440"/>
                        <a:pt x="2049" y="423"/>
                      </a:cubicBezTo>
                      <a:cubicBezTo>
                        <a:pt x="2083" y="406"/>
                        <a:pt x="2099" y="377"/>
                        <a:pt x="2109" y="348"/>
                      </a:cubicBezTo>
                      <a:cubicBezTo>
                        <a:pt x="2119" y="319"/>
                        <a:pt x="2127" y="283"/>
                        <a:pt x="2109" y="251"/>
                      </a:cubicBezTo>
                      <a:cubicBezTo>
                        <a:pt x="2091" y="219"/>
                        <a:pt x="2161" y="191"/>
                        <a:pt x="2004" y="154"/>
                      </a:cubicBezTo>
                      <a:cubicBezTo>
                        <a:pt x="1847" y="117"/>
                        <a:pt x="1445" y="52"/>
                        <a:pt x="1167" y="27"/>
                      </a:cubicBezTo>
                      <a:cubicBezTo>
                        <a:pt x="889" y="2"/>
                        <a:pt x="522" y="0"/>
                        <a:pt x="336" y="4"/>
                      </a:cubicBezTo>
                      <a:cubicBezTo>
                        <a:pt x="150" y="8"/>
                        <a:pt x="104" y="27"/>
                        <a:pt x="52" y="49"/>
                      </a:cubicBezTo>
                      <a:cubicBezTo>
                        <a:pt x="0" y="71"/>
                        <a:pt x="1" y="103"/>
                        <a:pt x="7" y="139"/>
                      </a:cubicBezTo>
                      <a:close/>
                    </a:path>
                  </a:pathLst>
                </a:custGeom>
                <a:solidFill>
                  <a:srgbClr val="892d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09880" y="3124440"/>
                  <a:ext cx="1216800" cy="348840"/>
                </a:xfrm>
                <a:custGeom>
                  <a:avLst/>
                  <a:gdLst/>
                  <a:ahLst/>
                  <a:rect l="l" t="t" r="r" b="b"/>
                  <a:pathLst>
                    <a:path w="2341" h="585">
                      <a:moveTo>
                        <a:pt x="506" y="441"/>
                      </a:moveTo>
                      <a:cubicBezTo>
                        <a:pt x="440" y="458"/>
                        <a:pt x="346" y="507"/>
                        <a:pt x="274" y="515"/>
                      </a:cubicBezTo>
                      <a:cubicBezTo>
                        <a:pt x="202" y="523"/>
                        <a:pt x="117" y="510"/>
                        <a:pt x="72" y="486"/>
                      </a:cubicBezTo>
                      <a:cubicBezTo>
                        <a:pt x="27" y="462"/>
                        <a:pt x="10" y="417"/>
                        <a:pt x="5" y="373"/>
                      </a:cubicBezTo>
                      <a:cubicBezTo>
                        <a:pt x="0" y="329"/>
                        <a:pt x="8" y="271"/>
                        <a:pt x="43" y="224"/>
                      </a:cubicBezTo>
                      <a:cubicBezTo>
                        <a:pt x="78" y="177"/>
                        <a:pt x="143" y="118"/>
                        <a:pt x="215" y="89"/>
                      </a:cubicBezTo>
                      <a:cubicBezTo>
                        <a:pt x="287" y="60"/>
                        <a:pt x="390" y="55"/>
                        <a:pt x="476" y="52"/>
                      </a:cubicBezTo>
                      <a:cubicBezTo>
                        <a:pt x="562" y="49"/>
                        <a:pt x="629" y="77"/>
                        <a:pt x="731" y="74"/>
                      </a:cubicBezTo>
                      <a:cubicBezTo>
                        <a:pt x="833" y="71"/>
                        <a:pt x="984" y="48"/>
                        <a:pt x="1090" y="37"/>
                      </a:cubicBezTo>
                      <a:cubicBezTo>
                        <a:pt x="1196" y="26"/>
                        <a:pt x="1252" y="12"/>
                        <a:pt x="1367" y="7"/>
                      </a:cubicBezTo>
                      <a:cubicBezTo>
                        <a:pt x="1482" y="2"/>
                        <a:pt x="1639" y="0"/>
                        <a:pt x="1778" y="7"/>
                      </a:cubicBezTo>
                      <a:cubicBezTo>
                        <a:pt x="1917" y="14"/>
                        <a:pt x="2119" y="35"/>
                        <a:pt x="2204" y="52"/>
                      </a:cubicBezTo>
                      <a:cubicBezTo>
                        <a:pt x="2289" y="69"/>
                        <a:pt x="2266" y="79"/>
                        <a:pt x="2287" y="111"/>
                      </a:cubicBezTo>
                      <a:cubicBezTo>
                        <a:pt x="2308" y="143"/>
                        <a:pt x="2323" y="202"/>
                        <a:pt x="2332" y="246"/>
                      </a:cubicBezTo>
                      <a:cubicBezTo>
                        <a:pt x="2341" y="290"/>
                        <a:pt x="2340" y="338"/>
                        <a:pt x="2339" y="373"/>
                      </a:cubicBezTo>
                      <a:cubicBezTo>
                        <a:pt x="2338" y="408"/>
                        <a:pt x="2324" y="429"/>
                        <a:pt x="2324" y="456"/>
                      </a:cubicBezTo>
                      <a:cubicBezTo>
                        <a:pt x="2324" y="483"/>
                        <a:pt x="2341" y="517"/>
                        <a:pt x="2339" y="538"/>
                      </a:cubicBezTo>
                      <a:cubicBezTo>
                        <a:pt x="2337" y="559"/>
                        <a:pt x="2326" y="581"/>
                        <a:pt x="2309" y="583"/>
                      </a:cubicBezTo>
                      <a:cubicBezTo>
                        <a:pt x="2292" y="585"/>
                        <a:pt x="2275" y="569"/>
                        <a:pt x="2234" y="553"/>
                      </a:cubicBezTo>
                      <a:cubicBezTo>
                        <a:pt x="2193" y="537"/>
                        <a:pt x="2138" y="504"/>
                        <a:pt x="2062" y="486"/>
                      </a:cubicBezTo>
                      <a:cubicBezTo>
                        <a:pt x="1986" y="468"/>
                        <a:pt x="1853" y="454"/>
                        <a:pt x="1778" y="448"/>
                      </a:cubicBezTo>
                      <a:cubicBezTo>
                        <a:pt x="1703" y="442"/>
                        <a:pt x="1688" y="453"/>
                        <a:pt x="1613" y="448"/>
                      </a:cubicBezTo>
                      <a:cubicBezTo>
                        <a:pt x="1538" y="443"/>
                        <a:pt x="1399" y="424"/>
                        <a:pt x="1329" y="418"/>
                      </a:cubicBezTo>
                      <a:cubicBezTo>
                        <a:pt x="1259" y="412"/>
                        <a:pt x="1267" y="410"/>
                        <a:pt x="1195" y="411"/>
                      </a:cubicBezTo>
                      <a:cubicBezTo>
                        <a:pt x="1123" y="412"/>
                        <a:pt x="982" y="426"/>
                        <a:pt x="895" y="426"/>
                      </a:cubicBezTo>
                      <a:cubicBezTo>
                        <a:pt x="808" y="426"/>
                        <a:pt x="738" y="410"/>
                        <a:pt x="671" y="411"/>
                      </a:cubicBezTo>
                      <a:cubicBezTo>
                        <a:pt x="604" y="412"/>
                        <a:pt x="572" y="424"/>
                        <a:pt x="506" y="441"/>
                      </a:cubicBezTo>
                      <a:close/>
                    </a:path>
                  </a:pathLst>
                </a:custGeom>
                <a:solidFill>
                  <a:srgbClr val="cc9b1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
              <p:cNvSpPr/>
              <p:nvPr/>
            </p:nvSpPr>
            <p:spPr>
              <a:xfrm>
                <a:off x="3844080" y="3182400"/>
                <a:ext cx="466560" cy="236520"/>
              </a:xfrm>
              <a:custGeom>
                <a:avLst/>
                <a:gdLst/>
                <a:ahLst/>
                <a:rect l="l" t="t" r="r" b="b"/>
                <a:pathLst>
                  <a:path w="898" h="397">
                    <a:moveTo>
                      <a:pt x="247" y="397"/>
                    </a:moveTo>
                    <a:lnTo>
                      <a:pt x="239" y="269"/>
                    </a:lnTo>
                    <a:lnTo>
                      <a:pt x="142" y="307"/>
                    </a:lnTo>
                    <a:lnTo>
                      <a:pt x="0" y="299"/>
                    </a:lnTo>
                    <a:lnTo>
                      <a:pt x="120" y="262"/>
                    </a:lnTo>
                    <a:lnTo>
                      <a:pt x="224" y="202"/>
                    </a:lnTo>
                    <a:lnTo>
                      <a:pt x="209" y="67"/>
                    </a:lnTo>
                    <a:lnTo>
                      <a:pt x="232" y="0"/>
                    </a:lnTo>
                    <a:lnTo>
                      <a:pt x="292" y="90"/>
                    </a:lnTo>
                    <a:lnTo>
                      <a:pt x="314" y="187"/>
                    </a:lnTo>
                    <a:lnTo>
                      <a:pt x="486" y="135"/>
                    </a:lnTo>
                    <a:lnTo>
                      <a:pt x="651" y="112"/>
                    </a:lnTo>
                    <a:lnTo>
                      <a:pt x="898" y="82"/>
                    </a:lnTo>
                    <a:lnTo>
                      <a:pt x="748" y="150"/>
                    </a:lnTo>
                    <a:lnTo>
                      <a:pt x="464" y="187"/>
                    </a:lnTo>
                    <a:lnTo>
                      <a:pt x="314" y="232"/>
                    </a:lnTo>
                    <a:lnTo>
                      <a:pt x="322" y="374"/>
                    </a:lnTo>
                    <a:lnTo>
                      <a:pt x="247" y="397"/>
                    </a:lnTo>
                    <a:close/>
                  </a:path>
                </a:pathLst>
              </a:custGeom>
              <a:solidFill>
                <a:srgbClr val="f8cb0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618080" y="3124080"/>
                <a:ext cx="81360" cy="200880"/>
              </a:xfrm>
              <a:custGeom>
                <a:avLst/>
                <a:gdLst/>
                <a:ahLst/>
                <a:rect l="l" t="t" r="r" b="b"/>
                <a:pathLst>
                  <a:path w="157" h="337">
                    <a:moveTo>
                      <a:pt x="90" y="8"/>
                    </a:moveTo>
                    <a:lnTo>
                      <a:pt x="157" y="195"/>
                    </a:lnTo>
                    <a:lnTo>
                      <a:pt x="142" y="337"/>
                    </a:lnTo>
                    <a:lnTo>
                      <a:pt x="0" y="0"/>
                    </a:lnTo>
                    <a:lnTo>
                      <a:pt x="90" y="8"/>
                    </a:lnTo>
                    <a:close/>
                  </a:path>
                </a:pathLst>
              </a:custGeom>
              <a:solidFill>
                <a:srgbClr val="f8cb0a"/>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 name=""/>
              <p:cNvSpPr/>
              <p:nvPr/>
            </p:nvSpPr>
            <p:spPr>
              <a:xfrm>
                <a:off x="4594320" y="3156120"/>
                <a:ext cx="419760" cy="236160"/>
              </a:xfrm>
              <a:custGeom>
                <a:avLst/>
                <a:gdLst/>
                <a:ahLst/>
                <a:rect l="l" t="t" r="r" b="b"/>
                <a:pathLst>
                  <a:path w="808" h="396">
                    <a:moveTo>
                      <a:pt x="0" y="366"/>
                    </a:moveTo>
                    <a:lnTo>
                      <a:pt x="105" y="366"/>
                    </a:lnTo>
                    <a:lnTo>
                      <a:pt x="255" y="306"/>
                    </a:lnTo>
                    <a:lnTo>
                      <a:pt x="471" y="112"/>
                    </a:lnTo>
                    <a:lnTo>
                      <a:pt x="307" y="67"/>
                    </a:lnTo>
                    <a:lnTo>
                      <a:pt x="232" y="22"/>
                    </a:lnTo>
                    <a:lnTo>
                      <a:pt x="352" y="22"/>
                    </a:lnTo>
                    <a:lnTo>
                      <a:pt x="524" y="74"/>
                    </a:lnTo>
                    <a:lnTo>
                      <a:pt x="621" y="0"/>
                    </a:lnTo>
                    <a:lnTo>
                      <a:pt x="681" y="0"/>
                    </a:lnTo>
                    <a:lnTo>
                      <a:pt x="576" y="82"/>
                    </a:lnTo>
                    <a:lnTo>
                      <a:pt x="801" y="134"/>
                    </a:lnTo>
                    <a:lnTo>
                      <a:pt x="808" y="209"/>
                    </a:lnTo>
                    <a:lnTo>
                      <a:pt x="516" y="134"/>
                    </a:lnTo>
                    <a:lnTo>
                      <a:pt x="344" y="291"/>
                    </a:lnTo>
                    <a:lnTo>
                      <a:pt x="277" y="344"/>
                    </a:lnTo>
                    <a:lnTo>
                      <a:pt x="157" y="396"/>
                    </a:lnTo>
                    <a:lnTo>
                      <a:pt x="0" y="366"/>
                    </a:lnTo>
                    <a:close/>
                  </a:path>
                </a:pathLst>
              </a:custGeom>
              <a:solidFill>
                <a:srgbClr val="f8cb0a"/>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53" name="PlaceHolder 1"/>
          <p:cNvSpPr>
            <a:spLocks noGrp="1"/>
          </p:cNvSpPr>
          <p:nvPr>
            <p:ph type="title"/>
          </p:nvPr>
        </p:nvSpPr>
        <p:spPr>
          <a:xfrm>
            <a:off x="685800" y="1414800"/>
            <a:ext cx="7772400" cy="140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lick to edit the title text format</a:t>
            </a:r>
            <a:endParaRPr b="0" lang="en-US" sz="4300" spc="-1" strike="noStrike">
              <a:solidFill>
                <a:srgbClr val="000000"/>
              </a:solidFill>
              <a:latin typeface="Comic Sans MS"/>
            </a:endParaRPr>
          </a:p>
        </p:txBody>
      </p:sp>
      <p:sp>
        <p:nvSpPr>
          <p:cNvPr id="54"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55"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6"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1768B-69F0-4623-B801-04425F03A05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SzPct val="80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SzPct val="60000"/>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070000"/>
            <a:ext cx="7772400" cy="749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Historical Fiction</a:t>
            </a:r>
            <a:endParaRPr b="0" lang="en-US" sz="4300" spc="-1" strike="noStrike">
              <a:solidFill>
                <a:srgbClr val="000000"/>
              </a:solidFill>
              <a:latin typeface="Comic Sans MS"/>
            </a:endParaRPr>
          </a:p>
        </p:txBody>
      </p:sp>
      <p:sp>
        <p:nvSpPr>
          <p:cNvPr id="95" name="PlaceHolder 2"/>
          <p:cNvSpPr>
            <a:spLocks noGrp="1"/>
          </p:cNvSpPr>
          <p:nvPr>
            <p:ph type="subTitle"/>
          </p:nvPr>
        </p:nvSpPr>
        <p:spPr>
          <a:xfrm>
            <a:off x="1371600" y="3886200"/>
            <a:ext cx="6400800" cy="581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s real? What’s no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17680" y="220320"/>
            <a:ext cx="8596080" cy="140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True Facts—This REALLY happened</a:t>
            </a:r>
            <a:endParaRPr b="0" lang="en-US" sz="4300" spc="-1" strike="noStrike">
              <a:solidFill>
                <a:srgbClr val="000000"/>
              </a:solidFill>
              <a:latin typeface="Comic Sans MS"/>
            </a:endParaRPr>
          </a:p>
        </p:txBody>
      </p:sp>
      <p:sp>
        <p:nvSpPr>
          <p:cNvPr id="97"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spcBef>
                <a:spcPts val="751"/>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Between 1840 and 1860 the majority of Irish peasants were starving due to the failure of their potato crops.</a:t>
            </a:r>
            <a:endParaRPr b="0" lang="en-US" sz="3000" spc="-1" strike="noStrike">
              <a:solidFill>
                <a:srgbClr val="000000"/>
              </a:solidFill>
              <a:latin typeface="Comic Sans MS"/>
            </a:endParaRPr>
          </a:p>
          <a:p>
            <a:pPr marL="343080" indent="-343080">
              <a:spcBef>
                <a:spcPts val="751"/>
              </a:spcBef>
              <a:buSzPct val="10977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ey were forced from their homes and many, many died.</a:t>
            </a:r>
            <a:endParaRPr b="0" lang="en-US" sz="3000" spc="-1" strike="noStrike">
              <a:solidFill>
                <a:srgbClr val="000000"/>
              </a:solidFill>
              <a:latin typeface="Comic Sans MS"/>
            </a:endParaRPr>
          </a:p>
          <a:p>
            <a:pPr marL="343080" indent="-343080">
              <a:spcBef>
                <a:spcPts val="751"/>
              </a:spcBef>
              <a:buSzPct val="10977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ousands of them sold everything they had to raise money to come to the United States to start a new life.</a:t>
            </a:r>
            <a:endParaRPr b="0" lang="en-US" sz="3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This part is pretend</a:t>
            </a:r>
            <a:r>
              <a:rPr b="0" lang="en-US" sz="4300" spc="-1" strike="noStrike">
                <a:solidFill>
                  <a:srgbClr val="000000"/>
                </a:solidFill>
                <a:latin typeface="Comic Sans MS"/>
              </a:rPr>
              <a:t>	</a:t>
            </a:r>
            <a:endParaRPr b="0" lang="en-US" sz="4300" spc="-1" strike="noStrike">
              <a:solidFill>
                <a:srgbClr val="000000"/>
              </a:solidFill>
              <a:latin typeface="Comic Sans MS"/>
            </a:endParaRPr>
          </a:p>
        </p:txBody>
      </p:sp>
      <p:sp>
        <p:nvSpPr>
          <p:cNvPr id="99"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ll me a story about two children and their mother who sell their home in Ireland to go across the ocean to start a new life in America.  When they get to the ship, their mother cannot leave her home, and she sends the two children—aged 14 and 10 alone on the ship and tells them to meet their father in Boston.  She doesn’t know that their father has just die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So what IS Historical Fiction</a:t>
            </a:r>
            <a:endParaRPr b="0" lang="en-US" sz="4300" spc="-1" strike="noStrike">
              <a:solidFill>
                <a:srgbClr val="000000"/>
              </a:solidFill>
              <a:latin typeface="Comic Sans MS"/>
            </a:endParaRPr>
          </a:p>
        </p:txBody>
      </p:sp>
      <p:sp>
        <p:nvSpPr>
          <p:cNvPr id="10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al historical time and place</a:t>
            </a:r>
            <a:endParaRPr b="0" lang="en-US" sz="2800" spc="-1" strike="noStrike">
              <a:solidFill>
                <a:srgbClr val="000000"/>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me real historical characters</a:t>
            </a:r>
            <a:endParaRPr b="0" lang="en-US" sz="2800" spc="-1" strike="noStrike">
              <a:solidFill>
                <a:srgbClr val="000000"/>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me characters are pretend and often have a role in an exciting time period</a:t>
            </a:r>
            <a:endParaRPr b="0" lang="en-US" sz="2800" spc="-1" strike="noStrike">
              <a:solidFill>
                <a:srgbClr val="000000"/>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history of the time and place create an adventure for the characters</a:t>
            </a:r>
            <a:endParaRPr b="0" lang="en-US" sz="2800" spc="-1" strike="noStrike">
              <a:solidFill>
                <a:srgbClr val="000000"/>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historical details are usually carefully researched to help the reader learn about the time period</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17680" y="326880"/>
            <a:ext cx="85960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ow is Historical FICTION different from Nonfiction history?</a:t>
            </a:r>
            <a:endParaRPr b="0" lang="en-US" sz="3600" spc="-1" strike="noStrike">
              <a:solidFill>
                <a:srgbClr val="000000"/>
              </a:solidFill>
              <a:latin typeface="Comic Sans MS"/>
            </a:endParaRPr>
          </a:p>
        </p:txBody>
      </p:sp>
      <p:sp>
        <p:nvSpPr>
          <p:cNvPr id="103"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 details are pretend—usually characters and their specific adventures</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tory can be told from just one point of view or man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5T15:40:10Z</dcterms:created>
  <dc:creator>paradisj</dc:creator>
  <dc:description/>
  <dc:language>en-US</dc:language>
  <cp:lastModifiedBy>Judith M Paradis</cp:lastModifiedBy>
  <dcterms:modified xsi:type="dcterms:W3CDTF">2007-01-02T18:59:06Z</dcterms:modified>
  <cp:revision>3</cp:revision>
  <dc:subject/>
  <dc:title>True Facts—This REALLY happened</dc:title>
</cp:coreProperties>
</file>